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684-0E09-48F5-87F3-7A18DE62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A04-3F5B-41B6-936A-5244F7AA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1F0-1D39-4EBA-8368-46629CFB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21A-65EF-4A13-898D-F4B5B23E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8FA-E7CF-41B4-AAD7-D7502AE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81E-A467-4256-85C7-0A7BC3D1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FAF-6987-4D13-9987-6DD234BC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625-EB50-4738-94F9-E31368C7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561-C91B-4B32-8F08-3906EA7D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B19-0658-4788-94AD-16A99F8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B5E-D7E7-45C8-A0DD-50C106E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2EB-64B2-453A-BEC6-5E5386D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8EBF-ADD9-4C93-A070-26CAA88D7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699000" cy="1106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238640" cy="59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2514600"/>
            <a:ext cx="79246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01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753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562640" cy="61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685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6197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4:10:10Z</dcterms:created>
  <dc:creator>grahams</dc:creator>
  <dc:description/>
  <dc:language>en-US</dc:language>
  <cp:lastModifiedBy>grahams</cp:lastModifiedBy>
  <dcterms:modified xsi:type="dcterms:W3CDTF">2012-04-26T14:10:15Z</dcterms:modified>
  <cp:revision>1</cp:revision>
  <dc:subject/>
  <dc:title>Slide 1</dc:title>
</cp:coreProperties>
</file>